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4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0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k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800" y="5493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krank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1400" y="54936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Erkrankung des Magen-Darm-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  <a:endCxn id="15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3"/>
            <a:endCxn id="16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4" name=""/>
          <p:cNvCxnSpPr>
            <a:stCxn id="160" idx="3"/>
            <a:endCxn id="16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121400" y="54936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Erkrankung des Magen-Darm-Trakt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3"/>
            <a:endCxn id="16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0" name=""/>
          <p:cNvCxnSpPr>
            <a:stCxn id="167" idx="3"/>
            <a:endCxn id="17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1400" y="549360"/>
            <a:ext cx="699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Erkrankung des Magen-Darm-Trakt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3"/>
            <a:endCxn id="17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1400" y="549360"/>
            <a:ext cx="699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Erkrankung des Magen-Darm-Trakt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3"/>
            <a:endCxn id="18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2" name=""/>
          <p:cNvCxnSpPr>
            <a:stCxn id="179" idx="3"/>
            <a:endCxn id="18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1400" y="549360"/>
            <a:ext cx="699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imäre Erkrankung des Magen-Darm-Trakt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 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erer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khe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eristalti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6" idx="3"/>
            <a:endCxn id="18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0" name=""/>
          <p:cNvCxnSpPr>
            <a:stCxn id="186" idx="3"/>
            <a:endCxn id="18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1121400" y="54936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Protein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kundärer Einfluss anderer Krankhe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rrit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leimhä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3200" y="549360"/>
            <a:ext cx="72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r Einfluss anderer Krankheit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rritation der Schleimhä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4920" y="3521160"/>
            <a:ext cx="237672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rrit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eimhä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ehl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leimhautprotektiv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3"/>
            <a:endCxn id="197" idx="1"/>
          </p:cNvCxnSpPr>
          <p:nvPr/>
        </p:nvCxnSpPr>
        <p:spPr>
          <a:xfrm flipV="1">
            <a:off x="3321000" y="3404520"/>
            <a:ext cx="2682000" cy="678600"/>
          </a:xfrm>
          <a:prstGeom prst="bentConnector3">
            <a:avLst>
              <a:gd name="adj1" fmla="val 4996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8" name=""/>
          <p:cNvCxnSpPr>
            <a:stCxn id="194" idx="3"/>
            <a:endCxn id="195" idx="1"/>
          </p:cNvCxnSpPr>
          <p:nvPr/>
        </p:nvCxnSpPr>
        <p:spPr>
          <a:xfrm>
            <a:off x="3321000" y="4083120"/>
            <a:ext cx="2682000" cy="673920"/>
          </a:xfrm>
          <a:prstGeom prst="bentConnector3">
            <a:avLst>
              <a:gd name="adj1" fmla="val 4996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H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-Bildung 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ea typeface="Arial"/>
                <a:hlinkClick r:id="rId12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3" action="ppaction://hlinksldjump"/>
              </a:rPr>
              <a:t>durch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4" action="ppaction://hlinksldjump"/>
              </a:rPr>
              <a:t>Urease-bild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5" action="ppaction://hlinksldjump"/>
              </a:rPr>
              <a:t>Bakter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480" y="6363360"/>
            <a:ext cx="173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Ammonia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de-DE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-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 Urease-bild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kter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2840" y="549360"/>
            <a:ext cx="7435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r Einfluss anderer Krankheit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rritation der Schleimhäut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1" lang="de-DE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-Bildung ↑ durch Urease-bildende Bakter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1" idx="3"/>
            <a:endCxn id="20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äm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8480" y="6363360"/>
            <a:ext cx="173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Ammonia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hl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leimhautprotektiv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2840" y="549360"/>
            <a:ext cx="743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r Einfluss anderer Krankheit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rritation der Schleimhäut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ehlen von Schleimhautprotektiv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7" idx="3"/>
            <a:endCxn id="21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hl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bei Hypoadrenokortizismus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peristalti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21400" y="54936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Proteinverlus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r Einfluss anderer Krankheit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yperperistalti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2" idx="3"/>
            <a:endCxn id="2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02520" y="5493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k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7" idx="3"/>
            <a:endCxn id="21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0" name=""/>
          <p:cNvCxnSpPr>
            <a:stCxn id="217" idx="3"/>
            <a:endCxn id="22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7" idx="3"/>
            <a:endCxn id="224" idx="1"/>
          </p:cNvCxnSpPr>
          <p:nvPr/>
        </p:nvCxnSpPr>
        <p:spPr>
          <a:xfrm flipV="1">
            <a:off x="3313080" y="2055600"/>
            <a:ext cx="2689920" cy="2026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5" name=""/>
          <p:cNvCxnSpPr>
            <a:stCxn id="217" idx="3"/>
            <a:endCxn id="222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strointestina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1400" y="549360"/>
            <a:ext cx="65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it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ymphangiektas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angiektas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0680" y="549360"/>
            <a:ext cx="67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it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ngiektas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3"/>
            <a:endCxn id="2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2" name=""/>
          <p:cNvCxnSpPr>
            <a:stCxn id="228" idx="3"/>
            <a:endCxn id="23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0680" y="549360"/>
            <a:ext cx="67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it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ngiektasi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5" idx="3"/>
            <a:endCxn id="23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9" name=""/>
          <p:cNvCxnSpPr>
            <a:stCxn id="235" idx="3"/>
            <a:endCxn id="24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20680" y="549360"/>
            <a:ext cx="67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it Protei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ssive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2" idx="3"/>
            <a:endCxn id="2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B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istoplasm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440" y="6396840"/>
            <a:ext cx="33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IBD = Inflammatory-Bowel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k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31760" y="549360"/>
            <a:ext cx="44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ck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8" idx="3"/>
            <a:endCxn id="25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2" name=""/>
          <p:cNvCxnSpPr>
            <a:stCxn id="248" idx="3"/>
            <a:endCxn id="25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lontum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5" idx="3"/>
            <a:endCxn id="25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9" name=""/>
          <p:cNvCxnSpPr>
            <a:stCxn id="255" idx="3"/>
            <a:endCxn id="25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1083240" y="549360"/>
            <a:ext cx="58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ick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3040" y="549360"/>
            <a:ext cx="75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chronisch &gt; Dickdarmdurchfall &gt; Entzündung &gt; 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2" idx="3"/>
            <a:endCxn id="26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iardien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urmbe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2680" y="549360"/>
            <a:ext cx="82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chronisch &gt; Dickdarmdurchfall &gt; Entzündung &gt; nicht-infektiö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7" idx="3"/>
            <a:endCxn id="2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B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olitis ulceros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mittelallerg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440" y="6396840"/>
            <a:ext cx="33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IBD = Inflammatory-Bowel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2320" y="54936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k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strointest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adäqu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7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56240" y="549360"/>
            <a:ext cx="57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k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strointestinal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rvov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au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almonel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iardien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okkzid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lostridien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urmbe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adäqu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6360" y="54936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k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strointestinal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fnahme von inadäqu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ubstan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dorbenes Futt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ätumstell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xtragastro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3600" y="549360"/>
            <a:ext cx="53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urchfall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k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xtragastrointest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ock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ünn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ck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941400" y="54936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ron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ünn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hne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it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5" name=""/>
          <p:cNvCxnSpPr>
            <a:stCxn id="141" idx="3"/>
            <a:endCxn id="14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032480" y="54936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ünndarmdurch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krank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gen-Darm-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kundärer 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derer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rankhe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4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2" name=""/>
          <p:cNvCxnSpPr>
            <a:stCxn id="148" idx="3"/>
            <a:endCxn id="15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1122480" y="54936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urchfal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chron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ünndarmdurchfa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ohne Protei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6:56:05Z</dcterms:modified>
  <cp:revision>336</cp:revision>
  <dc:subject/>
  <dc:title>Vorstellung einer Neuheit</dc:title>
</cp:coreProperties>
</file>